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AD4E-F28E-4D38-B332-3E0BBA3DE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E40E-8459-457D-A774-172470A49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F89C-6100-4D4C-A2A3-7FF167E5A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FEE3-A190-4EFE-8806-6A7C4BF6E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B703-738E-4607-847C-E6712B969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D99A-4C52-4163-BF56-0879701D8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00F9-7099-4485-A7BB-CD27BC305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3021-7D13-4910-AE9F-A5BF7790D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6E6D-0F60-490B-9F7A-C588F99C6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532D-8B29-457E-BEB3-0B70D79AD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C53C-E4AE-4F9C-B66C-3B529236F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40C1-4BF3-45B9-8CCE-F1B0F19C4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A644-B870-4864-AC2C-0CD37C763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3D6E-179B-4939-A99B-7C9F62163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190C-B023-46EA-848E-0F20E37AC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DB5F-9160-4281-BFFB-127FBE6AD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E10C-09F2-4672-9318-683CBB898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08C4-A44D-445E-A699-4FB6CAA66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32B3-AA43-4107-8B31-10B121368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3CA6-A88D-40FD-A563-B98371B45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7947-9A99-4441-90B5-9648ABDCB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5955-9F6C-4B34-9F33-CF6CE87ED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CCF3-3AEF-44F3-B0FD-68034980E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53B5-E2B6-4AC7-8131-4529E131E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2403-FC8D-4A15-A6D7-0240E653C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5B0A-BB09-4AA0-8A11-19C688F57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493F-BB0F-46FA-84A6-1B564A9A4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E3CA-1336-4E86-B55D-998A8C4FD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4EEA-BA9D-4558-BA5A-537A6EEA7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3C75-8A3E-4F44-8471-035B2AE3F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0DAE-9DB6-415D-9D7E-B777C7FE2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2905-790E-4A34-B54D-E6AED0EA1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F84E-F039-4A36-9DE6-E9122B8C5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6E28-7A4B-4F45-A453-2619ECB40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4A7C-5294-49F2-8DC0-DFD09FF6E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1721-B507-41D0-85BC-B05742F6B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FF02-6B07-4386-A964-BF1881515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921F-525E-421F-BF8F-3F0827BD5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1F5E-BF9B-445B-9203-4DD28B9BF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2AB5-303A-44D6-8A06-4A4F579EF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30E6-AC50-439A-8AC4-797201483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18C0-2809-42E7-AD66-E03744EE5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B10D-F552-4651-B473-FF959CAF3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8652-5C1C-412C-A044-E595CB219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F458-4756-4F32-B8BC-88C312F23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6018-5923-4E3E-8B3B-2513C7ACD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0F1E-EB87-4B36-A5F2-468890F73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0FD-B6F8-4129-B8A7-6F2DB03A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B2AB-57AD-4199-ACBB-B34AE5E2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1AD7-BA6D-4C90-968E-CEE34847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254-03BC-4A4D-92C7-B3875EA9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4B64-E459-4BCC-91D9-EE2774CD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A41A-E21E-40FE-9AF6-AD3ECD2D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237E-290A-4127-A309-310865B1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CD4B-7D78-48C8-9144-F1DAC34C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DD5B-1024-4495-9343-C57FF27F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2097-B6FD-4CE1-99B5-42B52B35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8BE-53E3-4C99-AB02-7B250E2C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6AC-195B-47F6-BAEC-09348CFB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3B84-D900-446C-9070-618DA59F4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6D89-4B8C-4199-972F-A369D48E2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17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The Individuals with Disabilities Education A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Sound 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125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3019-D1F4-44E2-B2DA-4C8CE7352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Educational Evaluations (IE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arents with information on where to obtain an I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one IEE at public exp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EA evaluation is appropriate, the parents are entitled to an IEE, but not at public exp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the IEE must b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 results may be presented at a he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earing officer may request an I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2F0E-6145-43ED-AC5A-C16046154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Rules for Determining Eligibility in IDEA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440" y="205740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hild will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e determined to be a child with a disability if the basis of the child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problem is lack of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cientifically based instru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reading, lack of appropriate teaching in math, or L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ally based reading instruction addresses the essential components of reading as listed by the National Reading Pa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39FD-7650-4DE1-9809-D90F8750C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Rule for Determining Eligibility for Learning Disabilities (IDEA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etermining whether a child has a learning disability, an LEA sh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required to take into consideration a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crepa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ability and achie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LEA may use a process that determines if the child responds to scientific, research-based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8517-A5D8-4D52-8D5F-3B207BD81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7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Referral and Assessment Pro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14F0-571E-4E7B-B6EE-734BB3250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25000" y="228600"/>
            <a:ext cx="6891480" cy="82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ferral Pro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15560" y="1371600"/>
            <a:ext cx="8911080" cy="51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disciplinary team (MDT) receives a student refer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175040" y="3581280"/>
            <a:ext cx="6792480" cy="51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DT seeks parental permission to ass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036800" y="2438280"/>
            <a:ext cx="7070040" cy="51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DT decides if sped assessment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486080" y="4724280"/>
            <a:ext cx="6172200" cy="51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DT receives informed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676520" y="5867280"/>
            <a:ext cx="5790960" cy="51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DT conduct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4381560" y="19810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4381560" y="31240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4381560" y="42670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4381560" y="54100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228600" y="6477120"/>
            <a:ext cx="733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0C7B-D62B-4CEE-9E31-A61AFA94F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880" y="457200"/>
            <a:ext cx="7840800" cy="82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ssessment Pro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329480" y="1752480"/>
            <a:ext cx="648468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DT team conducts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627840" y="4267080"/>
            <a:ext cx="788688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the child need speci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16320" y="2971800"/>
            <a:ext cx="790956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the child have an IDEA dis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443320" y="5486400"/>
            <a:ext cx="425592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oints IEP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4381560" y="25146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4381560" y="36576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438156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404A-14A2-481D-95ED-D821B8B5E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 3: Free Appropriate Public Education (FAP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9040" y="2286000"/>
            <a:ext cx="8305920" cy="32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 education and related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d at public exp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state educational agency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d in conformity with the Individualized Education Program (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Sound 1" descr=""/>
          <p:cNvPicPr/>
          <p:nvPr/>
        </p:nvPicPr>
        <p:blipFill>
          <a:blip r:embed="rId1"/>
          <a:stretch/>
        </p:blipFill>
        <p:spPr>
          <a:xfrm>
            <a:off x="380880" y="525780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9468-A6D6-49BF-9B54-0F99D2F07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ecial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220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ly designed instruction to meet the unique needs of a student with a di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 in the classroom, home, hospital, or oth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academic skills, physical and motor skills, language skills, vocational skills, and functi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150B-E724-4520-9EA9-CD5E241CE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e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al services must be provided at no charge to par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es only to special education and related servi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esn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 include incidental fees such as field trip exp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533D-6B31-4E13-AEE4-0DA4BA98B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9992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ropriate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ppropriate must be decided on a case by case ba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st meet state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vided in conformity with I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DDFA-D873-4CF6-B6F8-FDD98504E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 Principles of ID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Re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e Appropriate Public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ection in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st Restrictive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dural Safegu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ental Particip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45C7-4302-45E7-AD65-89E549DD6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ublic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ets state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ludes children placed in private facilities by the school distri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children are placed in private facilities the school must make a FAPE avail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FAPE is available and appropriate, schools do not have to p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B6C1-5F92-40AB-9B72-2B5D50192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lated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vices that may be required to assist a child with a disability to benefit from special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DBB8-F6B5-446D-9623-E1EF55530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exhaustive List of Specific Related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36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istive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seling and Psychological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idential Plac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Work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 Counseling and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ech Thera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BF92-286B-43A4-A689-2A5A0FC7A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exhaustive List of specific Related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and Occupation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Health Services (including complex health services if nee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ically implanted medical devices (e.g.,  Cochlear Impla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0687-5C98-4345-A848-B3312EA37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ssistive Technology (A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T is required, a person qualified to conduct AT assessments should be on the IEP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 may include home use of the AT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AT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mentativ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ty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1C5C-2930-452B-B415-CC31DCB21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Individualized Education Progr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ement of a stud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special education and relat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EP must be in effect by the beginning of the school yea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s are responsible for developing, implementing, and rev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EP is developed in an IEP meeting in whic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essment results are discu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ud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educational program is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ud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placement is deter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DA1A-F0C6-46EA-BEBA-3086CB6AE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228240"/>
            <a:ext cx="800100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nts in the IEP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904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ctr"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representative of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education tea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 education tea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son knowledgeable about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s at request of IEP partici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39F3-5B1E-47AB-8132-AB1E0D59A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880" y="-360"/>
            <a:ext cx="7840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IEP Pro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850760" y="990720"/>
            <a:ext cx="5440680" cy="1064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the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Develop the PLAAFP statement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061280" y="2536920"/>
            <a:ext cx="7021080" cy="21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 the Educational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Develop Measurable Annual Goal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Develop Special Education Service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Determine Progress Monitoring System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Determine Student Placement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28600" y="5105520"/>
            <a:ext cx="8686800" cy="136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itor Student Prog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Communicate the student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progress to his/her parent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Make changes if neede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4381560" y="20574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4381560" y="464832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228600" y="6477120"/>
            <a:ext cx="733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CF5E-CC3B-42F5-8793-921C0A0C8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tent of the IE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levels of academic achievement &amp; functiona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able annual goals, including academic &amp; function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scription of how the stud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progress toward meeting the goals will be measured and when reports will be issued to parents (concurrent with report car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ement of special education and related services based on peer-reviewed research to be provided to the student.  This 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ementary aids &amp;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mod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for school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228600" y="6477120"/>
            <a:ext cx="733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31FB-739D-4174-80E6-8803F3F30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tent of the IEP (continued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lanation of the extent, if any, to which the student will not participate with nondisabled students in the general education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ement of any individual accommodations that are needed to measure the stud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chievement on statewide assessments or if the student is taking an alternate assessment the IEP must explain why this option was cho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jected date for the beginning, frequency, location, and duration 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7471-E185-4CBF-83F8-D90CD6FC6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 Principles of ID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280" y="1676520"/>
          <a:ext cx="8839440" cy="479088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le of ID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ir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ro Re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te, identify, &amp; provide services to all eligible students with disabiliti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ection in 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duct an assessment to determine if a student has an IDEA related disability and if he/she needs special education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e Appropriate Public Edu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 and deliver an individualized education program of special education services that confers meaningful educational benefit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st Restrictive Enviro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e students with disabilities with nondisabled students to the maximum extent appropriat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dural Safegu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y with the procedural requirements of the IDE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ntal Particip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laborate with parents in the development and delivery of their child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special education progra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29"/>
          <p:cNvSpPr/>
          <p:nvPr/>
        </p:nvSpPr>
        <p:spPr>
          <a:xfrm>
            <a:off x="228600" y="6461280"/>
            <a:ext cx="733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C676-11FA-47E5-BC4B-FBEABD1B2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r some students, the IEP should includ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not later than the first IEP in effect when the students is 16 and updated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measurable postsecondary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rights when he/she reaches the age of maj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tud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behavior impedes his/her learning or the learning of others, positive behavioral interventions &amp; su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ive technolog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B212-5033-452D-A439-8BBBBAFDE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906156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inciple 4: Least Restrictive Environment (LRE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3680" y="2361960"/>
            <a:ext cx="82166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maximum extent appropriate children with disabilities are to be educated with children who are not disab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al may only occur when education in regular classes with the use of supplementary aids and services cannot be achieved satisfactor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Sound 1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3467-EDEA-4ADC-99F6-2D199388D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80960" y="456840"/>
            <a:ext cx="818208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tinuum of Alternate Place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1622880" y="2133720"/>
            <a:ext cx="5896440" cy="4418640"/>
            <a:chOff x="1622880" y="2133720"/>
            <a:chExt cx="5896440" cy="4418640"/>
          </a:xfrm>
        </p:grpSpPr>
        <p:sp>
          <p:nvSpPr>
            <p:cNvPr id="198" name="Rectangle 3"/>
            <p:cNvSpPr/>
            <p:nvPr/>
          </p:nvSpPr>
          <p:spPr>
            <a:xfrm>
              <a:off x="2404440" y="2133720"/>
              <a:ext cx="4374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Regular Classroo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4"/>
            <p:cNvSpPr/>
            <p:nvPr/>
          </p:nvSpPr>
          <p:spPr>
            <a:xfrm flipH="1" rot="16200000">
              <a:off x="4279680" y="2732040"/>
              <a:ext cx="622080" cy="64080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5"/>
            <p:cNvSpPr/>
            <p:nvPr/>
          </p:nvSpPr>
          <p:spPr>
            <a:xfrm>
              <a:off x="1622880" y="3443040"/>
              <a:ext cx="5896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Self-Contained Classroo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 flipH="1" rot="16200000">
              <a:off x="4303800" y="4066560"/>
              <a:ext cx="622080" cy="64116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2758320" y="4755960"/>
              <a:ext cx="3684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Special School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8"/>
            <p:cNvSpPr/>
            <p:nvPr/>
          </p:nvSpPr>
          <p:spPr>
            <a:xfrm flipH="1" rot="16200000">
              <a:off x="4326480" y="5314680"/>
              <a:ext cx="621720" cy="64116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460600" y="5914800"/>
              <a:ext cx="4317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Hospital/Institu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1"/>
          <p:cNvSpPr/>
          <p:nvPr/>
        </p:nvSpPr>
        <p:spPr>
          <a:xfrm>
            <a:off x="228600" y="6477120"/>
            <a:ext cx="733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A349-6722-4DA7-891C-90CC7E932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76240" y="228240"/>
            <a:ext cx="7391520" cy="12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RE The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0760" y="1828800"/>
            <a:ext cx="8502480" cy="424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ropriat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E is not intended to replace appropriat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vidu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ize does not fi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re continuum of placements must b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tion/Inclusion B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ust start with the notion of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2C46-51C8-4299-BFE9-0BC1F90F9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0440" y="380520"/>
            <a:ext cx="8763120" cy="12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appropriate Conside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82720" y="2133360"/>
            <a:ext cx="73785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cement according to category or seve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cement where services are traditionally provi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ting disruption w/o evidence of behavior management attem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t, unless excess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A6B9-2A76-4C6F-B92D-FA2DCFB7D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0560" y="304920"/>
            <a:ext cx="8102880" cy="90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termining L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2645640" y="1362240"/>
            <a:ext cx="3852720" cy="136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Determine F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Goals and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What is appropri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 flipV="1">
            <a:off x="4584600" y="2765160"/>
            <a:ext cx="19080" cy="5713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598320" y="3355920"/>
            <a:ext cx="7909200" cy="210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Determine Plac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an FAPE be achieved in general ed. with supplementary aids and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f no, move through the continuum to determine L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"/>
          <p:cNvSpPr/>
          <p:nvPr/>
        </p:nvSpPr>
        <p:spPr>
          <a:xfrm flipV="1">
            <a:off x="4633920" y="5128920"/>
            <a:ext cx="19080" cy="5713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1308240" y="5732640"/>
            <a:ext cx="6696000" cy="118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Provide Integrated 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228600" y="6477120"/>
            <a:ext cx="733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E82A-12F7-4D72-9171-01935736B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5520" y="45684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inciple 5: Procedural Safegua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96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205560" indent="-20556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ice and consent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rrogate par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rtunity to examine rec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ependent educational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lution s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artial due process hea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228600" y="6477120"/>
            <a:ext cx="733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Sound 1" descr=""/>
          <p:cNvPicPr/>
          <p:nvPr/>
        </p:nvPicPr>
        <p:blipFill>
          <a:blip r:embed="rId1"/>
          <a:stretch/>
        </p:blipFill>
        <p:spPr>
          <a:xfrm>
            <a:off x="152280" y="4648320"/>
            <a:ext cx="812880" cy="81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1058-A260-4952-A221-954872DE0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8458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cedural Safeguards Not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9172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dural safeguard notice may be given only once a year except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refer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al request for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filing of a due process 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request of the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districts may post procedural safeguard notice on their Web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dural safeguards notice must includ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timeframes for filing due process hearing requests (b) the opportunity for resolution process (c) information on mediation, and (d) timeframes for laws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C331-E71D-4263-B34C-CF831B9DB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di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3680" y="1371600"/>
            <a:ext cx="8216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must offer mediation as a voluntary  option to parents and educators for resolving disp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diator must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d or qualified to conduct mediation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able about special education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r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ediation is unsuccessful, either party may request a due process 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0941-9718-4333-9168-65E94B10F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458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ritten Settlement Agre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301760"/>
            <a:ext cx="91440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solution is reached to resolve the complaint at a resolution session, the parties execute a legally binding agreement (written settlement agreement)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ed by both the parents and a representative of the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rceable in any state court of competent juris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arties execute a written settlement agreement, a party may void the agreement within three business days of the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59F7-645F-477B-AF9C-0DB5AB815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inciple 1: Zero Rej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880" y="2057400"/>
            <a:ext cx="9086760" cy="438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te, identify, &amp; serve all students with disabilities aged 3 –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ild find oblig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criteria for elig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ent must be determined to have a disability that is covered by th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the disability, the student needs special education and relat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ound 1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AF6A-7297-4F77-9435-1021934D1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ue Process Hea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09520" y="1523880"/>
            <a:ext cx="8724960" cy="444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 or school may initiate a 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ings may involve issues regarding identification, evaluation, or 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ing must be conducted by the L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ing officer must be impar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exhaustion of administrative remedies either party may appeal the decision to state or federal co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08A0-0927-44ED-852E-667667772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8458200" cy="13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ttorneys Fe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3200" y="1295280"/>
            <a:ext cx="880128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agencies may recover their attorney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es from paren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orneys if their case w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vol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reaso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agencies may recover attorney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es against the paren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orney or the parents if the case was presented for any improper purpose such as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 unnecessary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needlessly increase the cost of li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56CC-4262-48A6-85BE-F90C8927A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inciple 6:  Parental Particip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al Notification and Con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:  To provide parents with sufficient information, in a timely manner, so that they may fully participate in educational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notice and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Sound 1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4696-8939-4E31-A287-3F363A958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ental Notification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 must be notified a reasonable amount of time before the scho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es or changes identification, evaluation, or educational placement or the provision of a free appropriate public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ses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05CE-8234-45D8-9804-3BCF67E0B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ental Consent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nt must be obtained bef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r changing stud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identification as IDEA-eli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ing a preplacemen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placement or change of plac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ing a re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nt is voluntary and may be revoked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8996-5EA5-4518-8C68-FAF1D4739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ent Participation in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districts must provide notice, thereby ensuring that parents have the opportunity to participate in meetings that add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program and placement (The IEP T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F525-FE3D-470E-B140-986718A90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ecial Educa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590920" y="1676520"/>
            <a:ext cx="3962160" cy="29718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4419720" y="4495680"/>
            <a:ext cx="30456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 rot="1744800">
            <a:off x="3504960" y="2895120"/>
            <a:ext cx="304560" cy="381240"/>
          </a:xfrm>
          <a:prstGeom prst="upArrow">
            <a:avLst>
              <a:gd name="adj1" fmla="val 50000"/>
              <a:gd name="adj2" fmla="val 31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2481120" y="5308560"/>
            <a:ext cx="418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termine Eligibility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termin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0" y="228600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velop the IEP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live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8"/>
          <p:cNvSpPr/>
          <p:nvPr/>
        </p:nvSpPr>
        <p:spPr>
          <a:xfrm rot="8463000">
            <a:off x="5334120" y="2894760"/>
            <a:ext cx="304560" cy="381240"/>
          </a:xfrm>
          <a:prstGeom prst="upArrow">
            <a:avLst>
              <a:gd name="adj1" fmla="val 50000"/>
              <a:gd name="adj2" fmla="val 31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5638680" y="228600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nitor progres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989800" y="4510080"/>
            <a:ext cx="316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2520" y="1447920"/>
            <a:ext cx="383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gram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5718960" y="152388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228600" y="6461280"/>
            <a:ext cx="733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2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4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7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1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4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6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5739-9B0F-4E98-AF39-D6F5BC18B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0320" y="-36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tegories of Dis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2280" y="1295280"/>
            <a:ext cx="77594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ism (added in 19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f-Bl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f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ring Impai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 Retar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Dis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pedic Impair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Health Im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otional Disturb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Learning Di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and Language Im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umatic Brain Injury (added in 199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Impairment including Blin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6477120"/>
            <a:ext cx="733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Sound 1" descr=""/>
          <p:cNvPicPr/>
          <p:nvPr/>
        </p:nvPicPr>
        <p:blipFill>
          <a:blip r:embed="rId1"/>
          <a:stretch/>
        </p:blipFill>
        <p:spPr>
          <a:xfrm>
            <a:off x="152280" y="525780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907A-7FC7-4381-AC28-4BA151B46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 2: Protection in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s shall conduct a full and individual evaluation before the initial provision of special education and related services to a child with a disability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U.S.C. 1414(a)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Sound 2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F9F9-4ECD-48CC-A8F7-85F233885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valuation Materi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040" y="19051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nd evaluation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not be discrimin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given in the chil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native language or mode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ly sound instruments must be used to ass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 and behavioral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and developmental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Sound 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2880" cy="81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9EC8-1CD4-41E9-AA42-072236F9A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valuation Proced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ent must be assessed in all areas related to the suspected di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hool is required to use a variety of assessment tools and  strategies to collect functional and developmental information that may assist in determ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ther a student has a di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ducational needs of a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D48B-E1D9-45AB-A07D-6D322CD8D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erpreting Evaluation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on information from a variety of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s must be documented and carefully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s must be made by a team (usually IEP te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ment decisions must be accordance with LR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5:44:52Z</dcterms:created>
  <dc:creator>Mitchell L. Yell, Ph.D.</dc:creator>
  <dc:description/>
  <dc:language>en-US</dc:language>
  <cp:lastModifiedBy>Christopher Heinemann</cp:lastModifiedBy>
  <dcterms:modified xsi:type="dcterms:W3CDTF">2011-12-12T00:54:00Z</dcterms:modified>
  <cp:revision>59</cp:revision>
  <dc:subject/>
  <dc:title>Six Principles of IDEA</dc:title>
</cp:coreProperties>
</file>